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9DF2-2E71-4493-9961-D406150F9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CA05-5B82-4902-BF09-52AC201B1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3B0B-4E36-43AF-812C-BA42B0EE0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66206-9091-49EC-8644-8029E311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472B-299B-4D9A-BD03-F33E9250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50405-05B2-45F8-89B3-9E3F89AD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590BC-DE50-4BAD-97EF-99D03D759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1DC-B3A3-42AD-B00D-F49FBC08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D960-4905-4E4D-B7C9-32CA8DF1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EBB6-1097-4E4E-B844-86F191D2E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F2C1-D80B-43FC-AF8D-E4778EF9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B8663-5DBD-4F3D-ABCF-803ED4EB9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AE3FD-E6F6-453D-9B3D-90A4676419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cky Web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Interview: Jenny 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Interview.mp3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3389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6T20:52:06Z</dcterms:created>
  <dc:creator>Rick W</dc:creator>
  <dc:description/>
  <dc:language>en-US</dc:language>
  <cp:lastModifiedBy>Rick W</cp:lastModifiedBy>
  <dcterms:modified xsi:type="dcterms:W3CDTF">2012-02-26T20:58:03Z</dcterms:modified>
  <cp:revision>1</cp:revision>
  <dc:subject/>
  <dc:title>Ricky Weber</dc:title>
</cp:coreProperties>
</file>