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096E-150F-4844-8192-EE8C7A6A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627-A051-4F99-B19F-E0D75EB2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911-7390-4F0C-887E-1AFF9259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D2C6-B23D-490B-B3E8-44A77652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24A-F476-4E6B-82E9-C0B1F027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93B0-3801-4013-88FD-E5E59457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5472-15FD-464C-A9EF-3BB2DCDA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381-D3C1-44A8-81F5-0AAF4774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E27-6E81-4BA5-BA8F-0E291A6F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7BB-D5CC-43FA-BE93-AA1330FB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A66-C763-480D-9BE2-4D30DBE6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4B5-514A-49C6-B35A-121C22CE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2782-96C4-4187-AEB0-CF656C678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cky We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terview: Jenny 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nterview.mp3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338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0:52:06Z</dcterms:created>
  <dc:creator>Rick W</dc:creator>
  <dc:description/>
  <dc:language>en-US</dc:language>
  <cp:lastModifiedBy>Rick W</cp:lastModifiedBy>
  <dcterms:modified xsi:type="dcterms:W3CDTF">2012-02-26T20:58:03Z</dcterms:modified>
  <cp:revision>1</cp:revision>
  <dc:subject/>
  <dc:title>Ricky Weber</dc:title>
</cp:coreProperties>
</file>