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F6E-5EA2-4B49-A668-584CC29B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B7D-A35F-4F6C-9BAB-ED0074EB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59A-FD90-462B-88B5-6DA6EA4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40A-2072-4221-AC64-CD7B08C4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AD4-5503-402B-B2A5-40269CA0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B63-BE2E-47F8-9F4F-0FFBF74E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E14-348B-4633-976F-3DA6771B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041-7FB2-4D50-AD90-1EFC22A6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525-274F-4282-9D2F-4773C9D6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C75-1D76-4E7F-9569-E757F5A9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CFC-26D2-4E0A-83F8-6E6195E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B65-D0BD-474B-ABB6-A39B4AF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B1D8-24CE-4730-A4F7-A96582FE0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y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view: Jenny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nterview.mp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3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0:52:06Z</dcterms:created>
  <dc:creator>Rick W</dc:creator>
  <dc:description/>
  <dc:language>en-US</dc:language>
  <cp:lastModifiedBy>Rick W</cp:lastModifiedBy>
  <dcterms:modified xsi:type="dcterms:W3CDTF">2012-02-26T20:58:03Z</dcterms:modified>
  <cp:revision>1</cp:revision>
  <dc:subject/>
  <dc:title>Ricky Weber</dc:title>
</cp:coreProperties>
</file>