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73B3-C297-4C5E-BEDB-EBA39F119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440C-D6AB-47E8-98EE-D5127F569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91C1-AC58-471D-BCC7-07B17C606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AB56-1C02-44F6-AF7E-FF21A3C89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FF7A-A59D-4F83-8E45-6431391F3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6DE3E-3E51-46FF-8F66-53B7D7D83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10A9-7BE7-490F-9BC3-3BD28D0B2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CD56-AF07-4938-9671-4FE54BDA2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3991-9C9A-4217-AF9C-F8D623C22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353D-5151-445F-8CE0-0510F63F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7732F-3530-454C-9074-9340B9FA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A648-CBDE-4417-8ADC-73B02A0FE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B3968-8375-4207-A36D-08D799C0B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cky We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erview: Jenny 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nterview.mp3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38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0:52:06Z</dcterms:created>
  <dc:creator>Rick W</dc:creator>
  <dc:description/>
  <dc:language>en-US</dc:language>
  <cp:lastModifiedBy>Rick W</cp:lastModifiedBy>
  <dcterms:modified xsi:type="dcterms:W3CDTF">2012-02-26T20:58:03Z</dcterms:modified>
  <cp:revision>1</cp:revision>
  <dc:subject/>
  <dc:title>Ricky Weber</dc:title>
</cp:coreProperties>
</file>